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1967-580D-4020-8A24-A25090E1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ABAB-F293-4B8D-A790-C48E8482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1A0-BB46-4395-B17D-D1C1E062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6FF-C31D-4F42-96D9-12977B16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738F-9AF1-4ECB-BD0D-61AAEEE6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07C0-D669-4820-A5B9-8480E508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3905-F88B-4574-9245-229087ED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2C04-35D6-4907-B609-0D074A2E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16B7-C308-4B3F-9443-9D71FC2C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96FE-7BE0-4CC3-AD09-AD05A2B0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A41C-2E32-46E1-AD26-E3CDE7D6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EF9F-1526-4011-A655-D0B39031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47D2-6FFE-4B16-B6C6-9A96F166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76CC-FDB3-41EF-B19C-1DB23294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AE60-8C3B-4818-8276-5234FEBF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5477-0116-46EC-A141-D4A77FA2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469C-EE98-4150-AC87-6FBEEEFC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0CA5-DD4F-49F4-BCF5-49680149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C727-2530-4631-9824-FE2411A7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20E5-6A67-4464-A3C7-14605D85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3C89-9D82-4623-BAC9-B348DC1B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FFAE-3B31-4684-A8CA-A7AE1E7C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581-BBA7-4176-ADDA-5C4F186D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206C-FA8E-4F6C-ADFF-AA08BE41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7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cc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cc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6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66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66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104E-BEFA-43C8-B1CF-8B4AC2EEE72B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62120" y="1371600"/>
            <a:ext cx="7848360" cy="152280"/>
            <a:chOff x="762120" y="1371600"/>
            <a:chExt cx="7848360" cy="152280"/>
          </a:xfrm>
        </p:grpSpPr>
        <p:sp>
          <p:nvSpPr>
            <p:cNvPr id="6" name=""/>
            <p:cNvSpPr/>
            <p:nvPr/>
          </p:nvSpPr>
          <p:spPr>
            <a:xfrm>
              <a:off x="762120" y="1430280"/>
              <a:ext cx="7848360" cy="936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66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7880" y="1371600"/>
              <a:ext cx="7768440" cy="11268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66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74360" y="1400040"/>
              <a:ext cx="776520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66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74360" y="1430280"/>
              <a:ext cx="776520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66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4360" y="1461960"/>
              <a:ext cx="776520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66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74360" y="1393920"/>
              <a:ext cx="776520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66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74360" y="1425600"/>
              <a:ext cx="776520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66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4360" y="1455840"/>
              <a:ext cx="776520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66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6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66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66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EB82-FCFE-4F7A-8B46-A766016C264C}" type="slidenum">
              <a:rPr b="0" lang="en-US" sz="1400" spc="-1" strike="noStrike">
                <a:solidFill>
                  <a:srgbClr val="cc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09480" y="3324240"/>
            <a:ext cx="8001000" cy="256680"/>
            <a:chOff x="609480" y="3324240"/>
            <a:chExt cx="8001000" cy="256680"/>
          </a:xfrm>
        </p:grpSpPr>
        <p:sp>
          <p:nvSpPr>
            <p:cNvPr id="55" name=""/>
            <p:cNvSpPr/>
            <p:nvPr/>
          </p:nvSpPr>
          <p:spPr>
            <a:xfrm>
              <a:off x="609480" y="3424320"/>
              <a:ext cx="8001000" cy="1566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66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15960" y="3324240"/>
              <a:ext cx="7843680" cy="19044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66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2440" y="337212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66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2440" y="342432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66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2440" y="347652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66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62040"/>
              <a:ext cx="784044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66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14600"/>
              <a:ext cx="784044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66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466800"/>
              <a:ext cx="784044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6600"/>
                </a:solidFill>
                <a:latin typeface="Times New Roman"/>
              </a:endParaRPr>
            </a:p>
          </p:txBody>
        </p:sp>
      </p:grp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45720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2" marL="914400" algn="ctr">
              <a:spcBef>
                <a:spcPts val="249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3" marL="1371600" algn="ctr">
              <a:spcBef>
                <a:spcPts val="224"/>
              </a:spcBef>
              <a:buClr>
                <a:srgbClr val="ff99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4" marL="1828800" algn="ctr">
              <a:spcBef>
                <a:spcPts val="2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cc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cc66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Not Against Flesh and Blood…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North Korea Study Schoo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orth East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January 10-13, 2005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he Rev. Ben Torrey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a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Arial"/>
              </a:rPr>
              <a:t>Spiritual Imperatives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26376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Love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Unity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Justice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ighteousness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0560" y="1665360"/>
            <a:ext cx="380988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ruth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Knowledge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2240" y="400356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4038480"/>
            <a:ext cx="716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Now may the God of hope fill you with all joy and peace in believing that you may abound in hope by the power of the Holy Spirit.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omans 10:13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7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Arial"/>
              </a:rPr>
              <a:t>For Further Study</a:t>
            </a:r>
            <a:r>
              <a:rPr b="0" lang="en-US" sz="4800" spc="-1" strike="noStrike">
                <a:solidFill>
                  <a:srgbClr val="cc66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The Person and Work of the Holy Spirit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R. A. Torrey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The Baptism With the Holy Spirit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R. A. Torrey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War on the Saints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Jesse Penn-Lewis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Receiving the Power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Long &amp; McMurry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7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Arial"/>
              </a:rPr>
              <a:t>What We Are Dealing With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A religion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aught from infancy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ouches all aspects of life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ngrained in the consciousness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A man set up against God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Deception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2 Corinthians 11:11-14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1 John 2:22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wo-level effor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7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Arial"/>
              </a:rPr>
              <a:t>Deception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Deception fed to the people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bout the nature/history of Kim Il Sung,             Kim Jong Il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bout the nature of North Korea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bout the nature of the rest of the world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Deception to the outside world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fficial statements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otemkin” deceptions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7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Arial"/>
              </a:rPr>
              <a:t>Two-Level Effort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777240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Natural obstacles to communication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Arial"/>
              </a:rPr>
              <a:t>Fundamental assumptions</a:t>
            </a:r>
            <a:endParaRPr b="0" lang="en-US" sz="2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Arial"/>
              </a:rPr>
              <a:t>Psychology</a:t>
            </a:r>
            <a:endParaRPr b="0" lang="en-US" sz="2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Arial"/>
              </a:rPr>
              <a:t>Culture</a:t>
            </a:r>
            <a:endParaRPr b="0" lang="en-US" sz="2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Arial"/>
              </a:rPr>
              <a:t>Language</a:t>
            </a:r>
            <a:endParaRPr b="0" lang="en-US" sz="2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Arial"/>
              </a:rPr>
              <a:t>Etc.</a:t>
            </a:r>
            <a:endParaRPr b="0" lang="en-US" sz="22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upernatural conflict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Arial"/>
              </a:rPr>
              <a:t>The Father of Lies</a:t>
            </a:r>
            <a:endParaRPr b="0" lang="en-US" sz="2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John 8:44, Revelation 12:9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Arial"/>
              </a:rPr>
              <a:t>Principalities and powers</a:t>
            </a:r>
            <a:endParaRPr b="0" lang="en-US" sz="2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Ephesians 2:2, 6:12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Arial"/>
              </a:rPr>
              <a:t>Spiritual bondage, blindness and deception</a:t>
            </a:r>
            <a:endParaRPr b="0" lang="en-US" sz="2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Acts 5:3-4, 26:18, 2 Corinthians 4:3-4. 2 Thessalonians 2:9-10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7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Arial"/>
              </a:rPr>
              <a:t>How We Deal With It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Marshall all human resources available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xperience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esearch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ynthesis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aterial resources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Appropriate the power of the Holy Spiri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Luke 10:17-20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cts 1:8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2 Corinthians 10:3-5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phesians 6:10-19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7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Arial"/>
              </a:rPr>
              <a:t>Who is the Holy Spirit?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he “Helper” (Comforter,Paraclete)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he Spirit of Truth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he Teacher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he One who convicts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ohn 14:16-17, 26; 15:26-27; 16:7-13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he One who fills us to work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us and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through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us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ruit—the Spirit within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224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Galatians 5:22-23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Gifts—the Spirit upon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224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Romans 12:6-8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224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1 Corinthians 12:4-11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224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Ephesians 4:4-13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7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Arial"/>
              </a:rPr>
              <a:t>Two Fillings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77724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e Spirit within—</a:t>
            </a:r>
            <a:r>
              <a:rPr b="0" lang="en-US" sz="3200" spc="-1" strike="noStrike">
                <a:solidFill>
                  <a:srgbClr val="ff9900"/>
                </a:solidFill>
                <a:latin typeface="Bwgrkl"/>
                <a:ea typeface="Times New Roman"/>
              </a:rPr>
              <a:t>plhrow,,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ff9900"/>
                </a:solidFill>
                <a:latin typeface="Bwgrkl"/>
                <a:ea typeface="Times New Roman"/>
              </a:rPr>
              <a:t>plhrhs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ermeating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Long-term, permanent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haracter shaping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Fruit bearing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e Spirit upon—</a:t>
            </a:r>
            <a:r>
              <a:rPr b="0" lang="en-US" sz="3200" spc="-1" strike="noStrike">
                <a:solidFill>
                  <a:srgbClr val="ff9900"/>
                </a:solidFill>
                <a:latin typeface="Bwgrkl"/>
                <a:ea typeface="Times New Roman"/>
              </a:rPr>
              <a:t>plhqw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  <a:ea typeface="Times New Roman"/>
              </a:rPr>
              <a:t>,</a:t>
            </a:r>
            <a:r>
              <a:rPr b="0" lang="en-US" sz="3200" spc="-1" strike="noStrike">
                <a:solidFill>
                  <a:srgbClr val="ff9900"/>
                </a:solidFill>
                <a:latin typeface="Book Antiqua"/>
                <a:ea typeface="Times New Roman"/>
              </a:rPr>
              <a:t> from </a:t>
            </a:r>
            <a:r>
              <a:rPr b="0" lang="en-US" sz="3200" spc="-1" strike="noStrike">
                <a:solidFill>
                  <a:srgbClr val="ff9900"/>
                </a:solidFill>
                <a:latin typeface="Bwgrkl"/>
                <a:ea typeface="Times New Roman"/>
              </a:rPr>
              <a:t>pimplhmi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harging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hort-term, needs re-charging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ropels to action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mpowering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Giving gifts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7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Arial"/>
              </a:rPr>
              <a:t>Appropriating the Power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26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Baptism with the Holy Spirit</a:t>
            </a:r>
            <a:endParaRPr b="0" lang="en-US" sz="26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nitiation into power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quipping for service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Preconditions</a:t>
            </a:r>
            <a:endParaRPr b="0" lang="en-US" sz="26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elationship to Christ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Accept Christ as Savior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Repent of all known sins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Confession of faith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Life of obedience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Desire to minister in power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eceiving the Power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Ask for it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Accept by faith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Step out in obedience, exercise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7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Arial"/>
              </a:rPr>
              <a:t>Operating in the Power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e individua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ember of the Body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Under authority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Grieve not the Holy Spirit that is within you”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ersonal disciplines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e Body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ollective discernment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utual correction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utual support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eam work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Love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15:26:48Z</dcterms:created>
  <dc:creator>Ben Torrey</dc:creator>
  <dc:description/>
  <dc:language>en-US</dc:language>
  <cp:lastModifiedBy>Ben Torrey</cp:lastModifiedBy>
  <dcterms:modified xsi:type="dcterms:W3CDTF">2005-03-29T19:32:07Z</dcterms:modified>
  <cp:revision>14</cp:revision>
  <dc:subject/>
  <dc:title>Not Against Flesh and Blood…</dc:title>
</cp:coreProperties>
</file>